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35D-24D4-41D8-A76B-B9E27E6E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994C-DA54-405B-8039-F105F30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554-905B-4B9B-9012-E3A1D5A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8F2-841D-4CF6-810A-989B109F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6B9B-16D7-4C5C-B730-C4FEFD5D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3EEE-7AE4-4DDE-9360-51ADF1D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A285-7E9B-4CA5-9749-323ACDB8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76B4-20FE-47D2-934D-C7D2251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2871-CFC7-48BB-A87C-A83B4C6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659-71E7-4209-B66F-2ED5BFA4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047B-2825-4D60-835C-1297444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DA0-080A-4AC7-8B11-4B465844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BD2E-89BD-46C3-9765-F947CB0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B11-E94D-4AE3-AE85-6D43A9B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95A9-566E-489E-ABBE-05D5FB54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3B1-4AA9-4BE5-A7F3-492891C2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5E6-6398-4A9C-B947-9E177FAA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775-957F-4CBF-869F-2FA240E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A07-9DD0-42F8-984D-66546FB9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B4D-EB9D-4E5E-B4AF-D6838B9A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86C-A755-4B6E-9C12-7AF9A4B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1D8-1A0F-470F-855A-9FD137A1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36B-F2C4-4F93-A29D-588384DD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4E2-30B0-4F1A-ADD8-3E4BF1F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737F-D604-423B-A783-66BD0C4F03FB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03E-30C0-4AC1-9543-C42A4BDE21D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t.wikipedia.org/wiki/Galin&#279;s_smegenys" TargetMode="External"/><Relationship Id="rId3" Type="http://schemas.openxmlformats.org/officeDocument/2006/relationships/hyperlink" Target="http://lt.wikipedia.org/wiki/Didieji_pusrutulia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t.wikipedia.org/wiki/Dendritas" TargetMode="External"/><Relationship Id="rId3" Type="http://schemas.openxmlformats.org/officeDocument/2006/relationships/hyperlink" Target="http://lt.wikipedia.org/wiki/Aksonas" TargetMode="External"/><Relationship Id="rId4" Type="http://schemas.openxmlformats.org/officeDocument/2006/relationships/hyperlink" Target="http://lt.wikipedia.org/wiki/&#352;vano_l&#261;stel&#279;" TargetMode="External"/><Relationship Id="rId5" Type="http://schemas.openxmlformats.org/officeDocument/2006/relationships/hyperlink" Target="http://lt.wikipedia.org/wiki/&#352;vano_l&#261;stel&#279;" TargetMode="External"/><Relationship Id="rId6" Type="http://schemas.openxmlformats.org/officeDocument/2006/relationships/hyperlink" Target="http://lt.wikipedia.org/wiki/L&#261;stel&#279;" TargetMode="External"/><Relationship Id="rId7" Type="http://schemas.openxmlformats.org/officeDocument/2006/relationships/hyperlink" Target="http://lt.wikipedia.org/wiki/L&#261;stel&#279;s_branduolys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143000"/>
            <a:ext cx="81471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Kūno ir sielos problema.</a:t>
            </a:r>
            <a:br>
              <a:rPr sz="4800"/>
            </a:br>
            <a:r>
              <a:rPr b="0" lang="lt-LT" sz="4800" spc="-1" strike="noStrike">
                <a:solidFill>
                  <a:srgbClr val="330033"/>
                </a:solidFill>
                <a:latin typeface="Times New Roman"/>
              </a:rPr>
              <a:t>Biologiniai elgesio pagrindai</a:t>
            </a:r>
            <a:r>
              <a:rPr b="0" lang="lt-LT" sz="4800" spc="-1" strike="noStrike">
                <a:solidFill>
                  <a:srgbClr val="330033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20955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Galvos smegenų tyrimų priemonė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linikiniai stebėjim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iesioginis poveikis smegen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elektrinio aktyvumo registravimas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– elektroencefalograma (E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megenų pjūviai – KAT (kompiuterinis aš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ET (pozitroninis emisinis tomografa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n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zonan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Psichofizinė problem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141200" y="1704600"/>
            <a:ext cx="7146720" cy="4195800"/>
            <a:chOff x="1141200" y="1704600"/>
            <a:chExt cx="7146720" cy="4195800"/>
          </a:xfrm>
        </p:grpSpPr>
        <p:sp>
          <p:nvSpPr>
            <p:cNvPr id="103" name="_s19469"/>
            <p:cNvSpPr/>
            <p:nvPr/>
          </p:nvSpPr>
          <p:spPr>
            <a:xfrm>
              <a:off x="3649680" y="2449440"/>
              <a:ext cx="2131560" cy="21319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9463"/>
            <p:cNvSpPr/>
            <p:nvPr/>
          </p:nvSpPr>
          <p:spPr>
            <a:xfrm>
              <a:off x="3832200" y="1704600"/>
              <a:ext cx="176472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Kūna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 (</a:t>
              </a: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megenys</a:t>
              </a:r>
              <a:r>
                <a:rPr b="0" lang="lt-LT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9470"/>
            <p:cNvSpPr/>
            <p:nvPr/>
          </p:nvSpPr>
          <p:spPr>
            <a:xfrm>
              <a:off x="4351320" y="3665160"/>
              <a:ext cx="2131560" cy="2132280"/>
            </a:xfrm>
            <a:prstGeom prst="ellipse">
              <a:avLst/>
            </a:prstGeom>
            <a:solidFill>
              <a:srgbClr val="990033">
                <a:alpha val="50000"/>
              </a:srgbClr>
            </a:solidFill>
            <a:ln w="46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9464"/>
            <p:cNvSpPr/>
            <p:nvPr/>
          </p:nvSpPr>
          <p:spPr>
            <a:xfrm>
              <a:off x="652284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Siela (sąmonė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9471"/>
            <p:cNvSpPr/>
            <p:nvPr/>
          </p:nvSpPr>
          <p:spPr>
            <a:xfrm>
              <a:off x="2948040" y="3665160"/>
              <a:ext cx="2131560" cy="2132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9467"/>
            <p:cNvSpPr/>
            <p:nvPr/>
          </p:nvSpPr>
          <p:spPr>
            <a:xfrm>
              <a:off x="1141200" y="5368680"/>
              <a:ext cx="17650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3600" spc="-1" strike="noStrike">
                  <a:solidFill>
                    <a:srgbClr val="000000"/>
                  </a:solidFill>
                  <a:latin typeface="Tahoma"/>
                </a:rPr>
                <a:t>Išorinis pasaul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sichofizinės problemos sprend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kazionalizmas (Dievas yra visa ko priežas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fizinis parale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aterial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iuolaikinis požiū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5280" y="1359000"/>
            <a:ext cx="8748360" cy="4302000"/>
            <a:chOff x="395280" y="1359000"/>
            <a:chExt cx="8748360" cy="4302000"/>
          </a:xfrm>
        </p:grpSpPr>
        <p:cxnSp>
          <p:nvCxnSpPr>
            <p:cNvPr id="114" name="_s25625"/>
            <p:cNvCxnSpPr>
              <a:stCxn id="115" idx="1"/>
              <a:endCxn id="116" idx="2"/>
            </p:cNvCxnSpPr>
            <p:nvPr/>
          </p:nvCxnSpPr>
          <p:spPr>
            <a:xfrm rot="10800000">
              <a:off x="5739840" y="4288680"/>
              <a:ext cx="233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25623"/>
            <p:cNvCxnSpPr>
              <a:stCxn id="118" idx="1"/>
              <a:endCxn id="116" idx="2"/>
            </p:cNvCxnSpPr>
            <p:nvPr/>
          </p:nvCxnSpPr>
          <p:spPr>
            <a:xfrm rot="10800000">
              <a:off x="5739840" y="4288680"/>
              <a:ext cx="233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5621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626960" y="3207600"/>
              <a:ext cx="229320" cy="366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5619"/>
            <p:cNvCxnSpPr>
              <a:stCxn id="116" idx="0"/>
              <a:endCxn id="121" idx="2"/>
            </p:cNvCxnSpPr>
            <p:nvPr/>
          </p:nvCxnSpPr>
          <p:spPr>
            <a:xfrm flipH="1" flipV="1" rot="5400000">
              <a:off x="6535440" y="2481120"/>
              <a:ext cx="229320" cy="1819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5617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2894040" y="2845440"/>
              <a:ext cx="229320" cy="109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5615"/>
            <p:cNvCxnSpPr>
              <a:stCxn id="127" idx="0"/>
              <a:endCxn id="125" idx="2"/>
            </p:cNvCxnSpPr>
            <p:nvPr/>
          </p:nvCxnSpPr>
          <p:spPr>
            <a:xfrm flipH="1" flipV="1" rot="5400000">
              <a:off x="1802160" y="2842920"/>
              <a:ext cx="229320" cy="1095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5612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6049440" y="738000"/>
              <a:ext cx="229320" cy="279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5611"/>
            <p:cNvCxnSpPr>
              <a:stCxn id="125" idx="0"/>
              <a:endCxn id="129" idx="2"/>
            </p:cNvCxnSpPr>
            <p:nvPr/>
          </p:nvCxnSpPr>
          <p:spPr>
            <a:xfrm flipH="1" flipV="1" rot="5400000">
              <a:off x="3502440" y="980280"/>
              <a:ext cx="229320" cy="2306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25607"/>
            <p:cNvSpPr/>
            <p:nvPr/>
          </p:nvSpPr>
          <p:spPr>
            <a:xfrm>
              <a:off x="2854080" y="1359000"/>
              <a:ext cx="3830760" cy="66024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5608"/>
            <p:cNvSpPr/>
            <p:nvPr/>
          </p:nvSpPr>
          <p:spPr>
            <a:xfrm>
              <a:off x="87840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ENTRIN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 (CNS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5609"/>
            <p:cNvSpPr/>
            <p:nvPr/>
          </p:nvSpPr>
          <p:spPr>
            <a:xfrm>
              <a:off x="5973480" y="2247840"/>
              <a:ext cx="3170160" cy="10288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FERINĖ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5614"/>
            <p:cNvSpPr/>
            <p:nvPr/>
          </p:nvSpPr>
          <p:spPr>
            <a:xfrm>
              <a:off x="39528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GALV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5616"/>
            <p:cNvSpPr/>
            <p:nvPr/>
          </p:nvSpPr>
          <p:spPr>
            <a:xfrm>
              <a:off x="258012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GAROS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1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MEGENY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8"/>
            <p:cNvSpPr/>
            <p:nvPr/>
          </p:nvSpPr>
          <p:spPr>
            <a:xfrm>
              <a:off x="4764960" y="3505320"/>
              <a:ext cx="194940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UTONOMINĖ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5620"/>
            <p:cNvSpPr/>
            <p:nvPr/>
          </p:nvSpPr>
          <p:spPr>
            <a:xfrm>
              <a:off x="6949440" y="3505320"/>
              <a:ext cx="1949760" cy="78408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OMATINĖ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9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ERVŲ SISTEM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5622"/>
            <p:cNvSpPr/>
            <p:nvPr/>
          </p:nvSpPr>
          <p:spPr>
            <a:xfrm>
              <a:off x="5973480" y="45180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24"/>
            <p:cNvSpPr/>
            <p:nvPr/>
          </p:nvSpPr>
          <p:spPr>
            <a:xfrm>
              <a:off x="5973480" y="5203800"/>
              <a:ext cx="3117960" cy="4572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ASIMPATINĖ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Centrinė nervų sistema (</a:t>
            </a: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2)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62200" y="1969920"/>
            <a:ext cx="247680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Galvos smegen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3456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16000" y="515772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Galvos smegenys:1.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Galinės smegeny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, arba </a:t>
            </a:r>
            <a:r>
              <a:rPr b="0" lang="lt-LT" sz="18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didieji pusrutuliai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  <a:ea typeface="Arial"/>
              </a:rPr>
              <a:t> 2. Tarpinės smegenys 3.Vidurinės smegenys 4. Užpakalinės smegenys 5. Smegenėlės 6. Pailgosios smegen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Neuronai ir j</a:t>
            </a: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ų sąveika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3593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76560" y="5681520"/>
            <a:ext cx="275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08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Neurono sandara. 1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2"/>
              </a:rPr>
              <a:t>Dendri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2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3"/>
              </a:rPr>
              <a:t>Aks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4. Sinapsinės jungtys 5. Mielininis dangalas (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4"/>
              </a:rPr>
              <a:t>Švano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5"/>
              </a:rPr>
              <a:t> ląstelė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) 6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6"/>
              </a:rPr>
              <a:t>Ląstelė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 7. </a:t>
            </a:r>
            <a:r>
              <a:rPr b="0" lang="lt-LT" sz="2400" spc="-1" strike="noStrike" u="sng">
                <a:solidFill>
                  <a:srgbClr val="990033"/>
                </a:solidFill>
                <a:uFillTx/>
                <a:latin typeface="Arial"/>
                <a:ea typeface="Arial"/>
                <a:hlinkClick r:id="rId7"/>
              </a:rPr>
              <a:t>Ląstelės branduol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Sinapsės – neuronų jungt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96872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340000" y="558972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Neuronų rūšys (pagal funkcijas)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nt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Judinamiej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100" spc="-1" strike="noStrike">
                <a:solidFill>
                  <a:srgbClr val="000000"/>
                </a:solidFill>
                <a:latin typeface="Arial"/>
              </a:rPr>
              <a:t>Įterptini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21:03:14Z</dcterms:created>
  <dc:creator>TADAS</dc:creator>
  <dc:description/>
  <dc:language>en-US</dc:language>
  <cp:lastModifiedBy> </cp:lastModifiedBy>
  <dcterms:modified xsi:type="dcterms:W3CDTF">2007-08-29T18:20:44Z</dcterms:modified>
  <cp:revision>17</cp:revision>
  <dc:subject/>
  <dc:title>BIOLOGINIAI ELGESIO PAGRINDAI</dc:title>
</cp:coreProperties>
</file>